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437-BF95-4E04-8C5B-827D24CF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60F-37A3-448C-A0D7-CD54C877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E79-1029-4D02-B4B5-8F9B25CF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8E6-ECD3-4425-B9DB-EB588176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D60-2B25-4530-A364-15C770AC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47D-9B81-4256-AD53-54DEED57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31D-21B4-42D0-AE66-746B658A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5DA-E23D-49C1-B20A-FC0A1417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BBE-597D-473F-91DA-68F7FDF7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D19-FA77-42D2-9017-1465AB2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BEF-4B12-4A21-AB1C-AD07AF50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E87-545C-4F2A-9B34-8AB2310E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86D8-B299-424C-BC31-1DCA12780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599080" y="6222960"/>
            <a:ext cx="26575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Пособие для 9-10 класс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63640" y="1441080"/>
            <a:ext cx="4119480" cy="2562120"/>
            <a:chOff x="863640" y="1441080"/>
            <a:chExt cx="4119480" cy="2562120"/>
          </a:xfrm>
        </p:grpSpPr>
        <p:sp>
          <p:nvSpPr>
            <p:cNvPr id="43" name=""/>
            <p:cNvSpPr txBox="1"/>
            <p:nvPr/>
          </p:nvSpPr>
          <p:spPr>
            <a:xfrm>
              <a:off x="1954080" y="1555560"/>
              <a:ext cx="3029040" cy="81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Тригонометрические 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функции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30200" y="2984400"/>
              <a:ext cx="352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682640" y="1441080"/>
              <a:ext cx="9720" cy="25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863640" y="2565360"/>
              <a:ext cx="799560" cy="77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301" y="294"/>
                  </a:moveTo>
                  <a:arcTo wR="10800" hR="10800" stAng="-4596616" swAng="45966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301" y="294"/>
                  </a:moveTo>
                  <a:arcTo wR="10800" hR="10800" stAng="-4596616" swAng="4596616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682640" y="2631960"/>
              <a:ext cx="818640" cy="68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02080" y="2631960"/>
              <a:ext cx="780480" cy="68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800000">
              <a:off x="2481840" y="2640600"/>
              <a:ext cx="81864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0800000">
              <a:off x="2490840" y="2640600"/>
              <a:ext cx="78048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09840" y="2649240"/>
              <a:ext cx="81864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38640" y="2649240"/>
              <a:ext cx="78048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5400000">
              <a:off x="4109760" y="2525040"/>
              <a:ext cx="798840" cy="77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301" y="294"/>
                  </a:moveTo>
                  <a:arcTo wR="10800" hR="10800" stAng="-4596616" swAng="45966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301" y="294"/>
                  </a:moveTo>
                  <a:arcTo wR="10800" hR="10800" stAng="-4596616" swAng="4596616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0840" y="2631960"/>
              <a:ext cx="723960" cy="666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27080" y="184320"/>
            <a:ext cx="70884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8440">
                  <a:solidFill>
                    <a:srgbClr val="004240"/>
                  </a:solidFill>
                  <a:miter/>
                </a:ln>
                <a:solidFill>
                  <a:srgbClr val="009999"/>
                </a:solidFill>
                <a:latin typeface="Kristen ITC"/>
              </a:rPr>
              <a:t>Тригонометрические  функции</a:t>
            </a:r>
            <a:endParaRPr b="1" i="1" lang="en-US" sz="3200" spc="1" strike="noStrike">
              <a:ln w="28440">
                <a:solidFill>
                  <a:srgbClr val="004240"/>
                </a:solidFill>
                <a:miter/>
              </a:ln>
              <a:solidFill>
                <a:srgbClr val="009999"/>
              </a:solidFill>
              <a:latin typeface="Kristen ITC"/>
              <a:ea typeface="Kristen ITC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559040" y="926640"/>
            <a:ext cx="12600" cy="458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3429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8600" y="307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50040" y="1138320"/>
            <a:ext cx="3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5080" y="306216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5360" y="509760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72000" y="2205000"/>
            <a:ext cx="792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2000" y="220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78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600880" y="2038320"/>
                <a:ext cx="1299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;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47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6000" y="344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197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040" y="2004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3960" y="33861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58400" y="343548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1989000"/>
            <a:ext cx="2880000" cy="288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4000" y="220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rot="5476800">
            <a:off x="3125880" y="1982160"/>
            <a:ext cx="2878920" cy="287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2" y="3"/>
                </a:moveTo>
                <a:arcTo wR="10800" hR="10800" stAng="-5322837" swAng="5403201"/>
                <a:lnTo>
                  <a:pt x="10800" y="10800"/>
                </a:lnTo>
                <a:close/>
              </a:path>
              <a:path fill="none" w="21600" h="21600">
                <a:moveTo>
                  <a:pt x="11042" y="3"/>
                </a:moveTo>
                <a:arcTo wR="10800" hR="10800" stAng="-5322837" swAng="5403201"/>
              </a:path>
            </a:pathLst>
          </a:custGeom>
          <a:noFill/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30000">
            <a:off x="3123360" y="1993680"/>
            <a:ext cx="2879640" cy="288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30" y="1"/>
                </a:moveTo>
                <a:arcTo wR="10800" hR="10800" stAng="-5358651" swAng="5365022"/>
                <a:lnTo>
                  <a:pt x="10800" y="10800"/>
                </a:lnTo>
                <a:close/>
              </a:path>
              <a:path fill="none" w="21600" h="21600">
                <a:moveTo>
                  <a:pt x="10930" y="1"/>
                </a:moveTo>
                <a:arcTo wR="10800" hR="10800" stAng="-5358651" swAng="5365022"/>
              </a:path>
            </a:pathLst>
          </a:custGeom>
          <a:noFill/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16080600">
            <a:off x="3115080" y="1998360"/>
            <a:ext cx="2878920" cy="28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2" y="6"/>
                </a:moveTo>
                <a:arcTo wR="10800" hR="10800" stAng="-5514037" swAng="5495939"/>
                <a:lnTo>
                  <a:pt x="10800" y="10800"/>
                </a:lnTo>
                <a:close/>
              </a:path>
              <a:path fill="none" w="21600" h="21600">
                <a:moveTo>
                  <a:pt x="10442" y="6"/>
                </a:moveTo>
                <a:arcTo wR="10800" hR="10800" stAng="-5514037" swAng="5495939"/>
              </a:path>
            </a:pathLst>
          </a:custGeom>
          <a:noFill/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10773600">
            <a:off x="3151440" y="1994760"/>
            <a:ext cx="2879640" cy="28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2" y="4"/>
                </a:moveTo>
                <a:arcTo wR="10800" hR="10800" stAng="-5497993" swAng="5479895"/>
                <a:lnTo>
                  <a:pt x="10800" y="10800"/>
                </a:lnTo>
                <a:close/>
              </a:path>
              <a:path fill="none" w="21600" h="21600">
                <a:moveTo>
                  <a:pt x="10492" y="4"/>
                </a:moveTo>
                <a:arcTo wR="10800" hR="10800" stAng="-5497993" swAng="5479895"/>
              </a:path>
            </a:pathLst>
          </a:custGeom>
          <a:noFill/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23920" y="5129280"/>
                <a:ext cx="22064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В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О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68880" y="5907240"/>
                <a:ext cx="12463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581960" y="5913360"/>
                <a:ext cx="1332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3080" y="5737320"/>
                <a:ext cx="2923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теореме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Пифагора</m:t>
                        </m:r>
                        <m:r>
                          <m:t xml:space="preserve">: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 flipV="1">
            <a:off x="4572000" y="220500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429000"/>
            <a:ext cx="792000" cy="0"/>
          </a:xfrm>
          <a:prstGeom prst="line">
            <a:avLst/>
          </a:prstGeom>
          <a:ln w="38160">
            <a:solidFill>
              <a:srgbClr val="1d0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960" y="4145040"/>
                <a:ext cx="27432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Δ</m:t>
                        </m:r>
                        <m:r>
                          <m:rPr>
                            <m:lit/>
                            <m:nor/>
                          </m:rPr>
                          <m:t xml:space="preserve">AB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908000" y="3933720"/>
            <a:ext cx="19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008760" y="898200"/>
            <a:ext cx="27000" cy="463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24400" y="225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365800" y="1182600"/>
            <a:ext cx="644400" cy="10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61320" y="1131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34080" y="3402000"/>
            <a:ext cx="2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546960" y="3827520"/>
                <a:ext cx="2216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Δ</m:t>
                        </m:r>
                        <m:r>
                          <m:rPr>
                            <m:lit/>
                            <m:nor/>
                          </m:rPr>
                          <m:t xml:space="preserve">ОСК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ОК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С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КС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406600" y="1953720"/>
            <a:ext cx="42735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78600" y="917640"/>
                <a:ext cx="51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V="1">
            <a:off x="6021360" y="1173240"/>
            <a:ext cx="0" cy="22557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42120" y="3170160"/>
            <a:ext cx="364320" cy="5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896000" y="2943360"/>
                <a:ext cx="3189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211640" y="199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26000" y="197640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4240" y="33908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9200" y="1585800"/>
            <a:ext cx="3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541920" y="4846680"/>
                <a:ext cx="2602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Δ</m:t>
                        </m:r>
                        <m:r>
                          <m:rPr>
                            <m:lit/>
                            <m:nor/>
                          </m:rPr>
                          <m:t xml:space="preserve">ODN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547880" y="1652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56160" y="1955880"/>
            <a:ext cx="965160" cy="46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67320" y="1617840"/>
                <a:ext cx="6192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25340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8240" y="4867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2000" y="3419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67720" y="310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055400" y="13064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04800" y="3046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81360" y="5065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76760" y="530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6840" y="4938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1280" y="3465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00" y="1268280"/>
            <a:ext cx="5472000" cy="11912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инусом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числа х называется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ордината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точки 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осинусом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числа х называется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абсцисса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точки 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которая получена поворотом начальной то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единичной окружности на угол 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2997360"/>
            <a:ext cx="5472000" cy="119124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Тангенсом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числа х называется 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синуса числа х к косинусу числа 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котангенсом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числа х называется 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косинуса числа х к синусу числа 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86800" y="4797360"/>
            <a:ext cx="5428080" cy="7038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Функции 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у=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sin x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,  у=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cosx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, у=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tgx 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и у= 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ctg x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Arial"/>
              </a:rPr>
              <a:t>называются 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тригонометриче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24720" y="476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1798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28720" y="88920"/>
            <a:ext cx="7380360" cy="8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28440">
                  <a:solidFill>
                    <a:srgbClr val="cc3300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Значения синуса, косинуса, тангенса и котангенса </a:t>
            </a:r>
            <a:endParaRPr b="0" lang="en-US" sz="1400" spc="1" strike="noStrike">
              <a:ln w="28440">
                <a:solidFill>
                  <a:srgbClr val="cc3300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28440">
                  <a:solidFill>
                    <a:srgbClr val="cc3300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для некоторых углов.</a:t>
            </a:r>
            <a:endParaRPr b="0" lang="en-US" sz="1400" spc="1" strike="noStrike">
              <a:ln w="28440">
                <a:solidFill>
                  <a:srgbClr val="cc3300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41760" y="1431720"/>
            <a:ext cx="14400" cy="521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82720" y="4114800"/>
            <a:ext cx="585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9360" y="1963800"/>
            <a:ext cx="4341960" cy="431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75840" y="415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57960" y="156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27520" y="4075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53040" y="6251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29040" y="2610000"/>
            <a:ext cx="3052800" cy="3022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00240" y="2573280"/>
            <a:ext cx="3067200" cy="3049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31960" y="3043080"/>
            <a:ext cx="3764160" cy="219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0800" y="3006720"/>
            <a:ext cx="3746520" cy="21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398760" y="2286000"/>
            <a:ext cx="2255760" cy="367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8760" y="2287440"/>
            <a:ext cx="2270160" cy="3686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61440" y="374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719760" y="2946240"/>
                <a:ext cx="1587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489720" y="2173320"/>
                <a:ext cx="2030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459480" y="2941560"/>
                <a:ext cx="3049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327400" y="2127240"/>
                <a:ext cx="268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51080" y="5213520"/>
                <a:ext cx="330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019240" y="5176800"/>
                <a:ext cx="254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79760" y="5664240"/>
                <a:ext cx="457200" cy="2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354400" y="5773680"/>
                <a:ext cx="295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29120" y="6008760"/>
                <a:ext cx="330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019320" y="6108840"/>
                <a:ext cx="2541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68760" y="6284880"/>
                <a:ext cx="330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613400" y="6438960"/>
                <a:ext cx="25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427720" y="6059520"/>
                <a:ext cx="330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584680" y="6226200"/>
                <a:ext cx="241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60960" y="5640480"/>
                <a:ext cx="4302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396120" y="5734080"/>
                <a:ext cx="2808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470640" y="5033880"/>
                <a:ext cx="330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762600" y="4932360"/>
                <a:ext cx="29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853320" y="4159080"/>
                <a:ext cx="330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161120" y="4133880"/>
                <a:ext cx="29520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70160" y="2982960"/>
                <a:ext cx="317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987560" y="3903840"/>
                <a:ext cx="3175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80120" y="2490840"/>
                <a:ext cx="3826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92760" y="2163600"/>
                <a:ext cx="2588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206960" y="1724040"/>
                <a:ext cx="2538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044880" y="2162160"/>
                <a:ext cx="317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58880" y="2444760"/>
                <a:ext cx="36540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08760" y="1873080"/>
                <a:ext cx="1666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227480" y="1192320"/>
                <a:ext cx="2192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862360" y="1893960"/>
                <a:ext cx="253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003400" y="2722680"/>
                <a:ext cx="241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70120" y="3824280"/>
                <a:ext cx="20808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3416400" y="2286000"/>
            <a:ext cx="22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90520" y="2595600"/>
            <a:ext cx="3063960" cy="3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662200" y="3050640"/>
            <a:ext cx="37670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2200" y="5245200"/>
            <a:ext cx="368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22560" y="5648400"/>
            <a:ext cx="2998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6400" y="5943600"/>
            <a:ext cx="221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02000" y="2273400"/>
            <a:ext cx="0" cy="3657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984400" y="2581200"/>
            <a:ext cx="14400" cy="3094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51040" y="3040200"/>
            <a:ext cx="12960" cy="2179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594040" y="2286000"/>
            <a:ext cx="27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34000" y="2273400"/>
            <a:ext cx="14400" cy="3682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64200" y="2608200"/>
            <a:ext cx="14400" cy="306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88200" y="3063960"/>
            <a:ext cx="12600" cy="213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334040" y="2949480"/>
                <a:ext cx="1267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264200" y="2365200"/>
                <a:ext cx="2124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75000" y="4923000"/>
                <a:ext cx="2113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462640" y="4121280"/>
                <a:ext cx="1270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05240" y="4119480"/>
                <a:ext cx="2109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697120" y="4145040"/>
                <a:ext cx="293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830920" y="4114800"/>
                <a:ext cx="212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02280" y="5359320"/>
                <a:ext cx="2934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167520" y="4118040"/>
                <a:ext cx="2062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211640" y="5742000"/>
                <a:ext cx="2984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280040" y="1987560"/>
                <a:ext cx="2062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325600" y="4146480"/>
                <a:ext cx="2984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14480" y="3436920"/>
                <a:ext cx="140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14480" y="3890880"/>
                <a:ext cx="1412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 flipV="1" rot="15726000">
            <a:off x="3746880" y="2823120"/>
            <a:ext cx="3469680" cy="244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1" y="94"/>
                </a:moveTo>
                <a:arcTo wR="10800" hR="10800" stAng="-5853033" swAng="2220219"/>
                <a:lnTo>
                  <a:pt x="10800" y="10800"/>
                </a:lnTo>
                <a:close/>
              </a:path>
              <a:path fill="none" w="21600" h="21600">
                <a:moveTo>
                  <a:pt x="9381" y="94"/>
                </a:moveTo>
                <a:arcTo wR="10800" hR="10800" stAng="-5853033" swAng="222021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 rot="14071200">
            <a:off x="3594960" y="2462760"/>
            <a:ext cx="3636720" cy="230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3" y="50"/>
                </a:moveTo>
                <a:arcTo wR="10800" hR="10800" stAng="-5730621" swAng="2306898"/>
                <a:lnTo>
                  <a:pt x="10800" y="10800"/>
                </a:lnTo>
                <a:close/>
              </a:path>
              <a:path fill="none" w="21600" h="21600">
                <a:moveTo>
                  <a:pt x="9763" y="50"/>
                </a:moveTo>
                <a:arcTo wR="10800" hR="10800" stAng="-5730621" swAng="2306898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 rot="12315000">
            <a:off x="3224520" y="2077560"/>
            <a:ext cx="357048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12" y="37"/>
                </a:moveTo>
                <a:arcTo wR="10800" hR="10800" stAng="-5683062" swAng="2336255"/>
                <a:lnTo>
                  <a:pt x="10800" y="10800"/>
                </a:lnTo>
                <a:close/>
              </a:path>
              <a:path fill="none" w="21600" h="21600">
                <a:moveTo>
                  <a:pt x="9912" y="37"/>
                </a:moveTo>
                <a:arcTo wR="10800" hR="10800" stAng="-5683062" swAng="233625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 rot="10260600">
            <a:off x="2763360" y="1959480"/>
            <a:ext cx="3223800" cy="222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61" y="235"/>
                </a:moveTo>
                <a:arcTo wR="10800" hR="10800" stAng="-6117838" swAng="2679267"/>
                <a:lnTo>
                  <a:pt x="10800" y="10800"/>
                </a:lnTo>
                <a:close/>
              </a:path>
              <a:path fill="none" w="21600" h="21600">
                <a:moveTo>
                  <a:pt x="8561" y="235"/>
                </a:moveTo>
                <a:arcTo wR="10800" hR="10800" stAng="-6117838" swAng="2679267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 rot="8561400">
            <a:off x="2300400" y="2187360"/>
            <a:ext cx="3230640" cy="249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85" y="171"/>
                </a:moveTo>
                <a:arcTo wR="10800" hR="10800" stAng="-6012877" swAng="2372480"/>
                <a:lnTo>
                  <a:pt x="10800" y="10800"/>
                </a:lnTo>
                <a:close/>
              </a:path>
              <a:path fill="none" w="21600" h="21600">
                <a:moveTo>
                  <a:pt x="8885" y="171"/>
                </a:moveTo>
                <a:arcTo wR="10800" hR="10800" stAng="-6012877" swAng="237248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 rot="6877200">
            <a:off x="2046240" y="2503440"/>
            <a:ext cx="3226320" cy="243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78" y="172"/>
                </a:moveTo>
                <a:arcTo wR="10800" hR="10800" stAng="-6015216" swAng="2658213"/>
                <a:lnTo>
                  <a:pt x="10800" y="10800"/>
                </a:lnTo>
                <a:close/>
              </a:path>
              <a:path fill="none" w="21600" h="21600">
                <a:moveTo>
                  <a:pt x="8878" y="172"/>
                </a:moveTo>
                <a:arcTo wR="10800" hR="10800" stAng="-6015216" swAng="2658213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 rot="5266200">
            <a:off x="1962000" y="3028320"/>
            <a:ext cx="3157200" cy="235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38" y="43"/>
                </a:moveTo>
                <a:arcTo wR="10800" hR="10800" stAng="-5706629" swAng="2662187"/>
                <a:lnTo>
                  <a:pt x="10800" y="10800"/>
                </a:lnTo>
                <a:close/>
              </a:path>
              <a:path fill="none" w="21600" h="21600">
                <a:moveTo>
                  <a:pt x="9838" y="43"/>
                </a:moveTo>
                <a:arcTo wR="10800" hR="10800" stAng="-5706629" swAng="2662187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 rot="3223200">
            <a:off x="2097720" y="3628440"/>
            <a:ext cx="3125520" cy="22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53" y="97"/>
                </a:moveTo>
                <a:arcTo wR="10800" hR="10800" stAng="-5862123" swAng="2471055"/>
                <a:lnTo>
                  <a:pt x="10800" y="10800"/>
                </a:lnTo>
                <a:close/>
              </a:path>
              <a:path fill="none" w="21600" h="21600">
                <a:moveTo>
                  <a:pt x="9353" y="97"/>
                </a:moveTo>
                <a:arcTo wR="10800" hR="10800" stAng="-5862123" swAng="247105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 rot="1572000">
            <a:off x="2529720" y="3570480"/>
            <a:ext cx="3276360" cy="26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52" y="112"/>
                </a:moveTo>
                <a:arcTo wR="10800" hR="10800" stAng="-5894550" swAng="2689593"/>
                <a:lnTo>
                  <a:pt x="10800" y="10800"/>
                </a:lnTo>
                <a:close/>
              </a:path>
              <a:path fill="none" w="21600" h="21600">
                <a:moveTo>
                  <a:pt x="9252" y="112"/>
                </a:moveTo>
                <a:arcTo wR="10800" hR="10800" stAng="-5894550" swAng="2689593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 rot="21260400">
            <a:off x="3003480" y="3780000"/>
            <a:ext cx="3221280" cy="249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86" y="68"/>
                </a:moveTo>
                <a:arcTo wR="10800" hR="10800" stAng="-5787276" swAng="2582319"/>
                <a:lnTo>
                  <a:pt x="10800" y="10800"/>
                </a:lnTo>
                <a:close/>
              </a:path>
              <a:path fill="none" w="21600" h="21600">
                <a:moveTo>
                  <a:pt x="9586" y="68"/>
                </a:moveTo>
                <a:arcTo wR="10800" hR="10800" stAng="-5787276" swAng="258231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 rot="19773600">
            <a:off x="3372480" y="3593160"/>
            <a:ext cx="3290760" cy="25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0" y="1"/>
                </a:moveTo>
                <a:arcTo wR="10800" hR="10800" stAng="-5441505" swAng="2297290"/>
                <a:lnTo>
                  <a:pt x="10800" y="10800"/>
                </a:lnTo>
                <a:close/>
              </a:path>
              <a:path fill="none" w="21600" h="21600">
                <a:moveTo>
                  <a:pt x="10670" y="1"/>
                </a:moveTo>
                <a:arcTo wR="10800" hR="10800" stAng="-5441505" swAng="229729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17496600">
            <a:off x="3715920" y="3132720"/>
            <a:ext cx="3267720" cy="25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11" y="315"/>
                </a:moveTo>
                <a:arcTo wR="10800" hR="10800" stAng="-6232279" swAng="2665607"/>
                <a:lnTo>
                  <a:pt x="10800" y="10800"/>
                </a:lnTo>
                <a:close/>
              </a:path>
              <a:path fill="none" w="21600" h="21600">
                <a:moveTo>
                  <a:pt x="8211" y="315"/>
                </a:moveTo>
                <a:arcTo wR="10800" hR="10800" stAng="-6232279" swAng="2665607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14480" y="4332240"/>
                <a:ext cx="12650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4480" y="4738680"/>
                <a:ext cx="1649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1120" y="5154480"/>
                <a:ext cx="1444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2000" y="5622840"/>
                <a:ext cx="1538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200" y="6110280"/>
                <a:ext cx="1737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55600" y="939960"/>
                <a:ext cx="12747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π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радиа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70000" y="1181160"/>
                <a:ext cx="556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71640" y="1198440"/>
                <a:ext cx="13460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44440" y="2378160"/>
                <a:ext cx="1182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рад</m:t>
                    </m:r>
                    <m:limLow>
                      <m:e/>
                      <m:lim/>
                    </m:limLow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17440" y="2840040"/>
                <a:ext cx="15066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рад</m:t>
                    </m:r>
                    <m:limLow>
                      <m:e/>
                      <m:lim/>
                    </m:limLow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404120" y="5853240"/>
                <a:ext cx="1530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463680" y="1930320"/>
            <a:ext cx="846288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703920" y="391680"/>
            <a:ext cx="30240" cy="622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67440" y="1930320"/>
            <a:ext cx="652320" cy="6969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86400" y="6256080"/>
            <a:ext cx="2147760" cy="4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75400" y="2946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293560" y="1930320"/>
            <a:ext cx="709560" cy="666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67440" y="5646600"/>
            <a:ext cx="60948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74040" y="161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74040" y="60879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794640" y="4842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237520" y="16794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54040" y="1689120"/>
                <a:ext cx="342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772320" y="6558120"/>
                <a:ext cx="342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737400" y="2341440"/>
                <a:ext cx="253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940120" y="1461960"/>
                <a:ext cx="368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718320" y="5313240"/>
                <a:ext cx="368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638680" y="1476360"/>
                <a:ext cx="25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303960" y="495360"/>
                <a:ext cx="369720" cy="2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434440" y="2019240"/>
                <a:ext cx="480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 flipH="1" flipV="1">
            <a:off x="2307960" y="1930320"/>
            <a:ext cx="14040" cy="217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89440" y="1603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661000" y="596520"/>
            <a:ext cx="1058760" cy="1685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784080" y="1945800"/>
            <a:ext cx="1843200" cy="1073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164040" y="1944720"/>
            <a:ext cx="217440" cy="3189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416640" y="1914120"/>
            <a:ext cx="1887480" cy="1117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15200" y="5210280"/>
            <a:ext cx="290520" cy="172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46600" y="5958000"/>
            <a:ext cx="462240" cy="711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6 L 0.25 0 L 0 0 Z">
                                      <p:cBhvr>
                                        <p:cTn id="57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58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25 1.85185E-006 L 0.25 0.33287 L 1.38889E-006 0.33287 L 1.38889E-006 1.85185E-006 Z">
                                      <p:cBhvr>
                                        <p:cTn id="584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6 L 0.25 0 L 0 0 Z">
                                      <p:cBhvr>
                                        <p:cTn id="59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0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0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6 L 0.25 0 L 0 0 Z">
                                      <p:cBhvr>
                                        <p:cTn id="613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22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277920"/>
            <a:ext cx="83026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остроение графика функции у=sinx</a:t>
            </a:r>
            <a:endParaRPr b="0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139760" y="953640"/>
            <a:ext cx="31680" cy="23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440" y="2151000"/>
            <a:ext cx="2052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6360" y="1325520"/>
            <a:ext cx="172872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351160" y="2112480"/>
            <a:ext cx="6678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556080" y="99972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86240" y="1328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00280" y="29732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53080" y="208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34120" y="20923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07360" y="20559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57520" y="203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27760" y="116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89520" y="2876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rot="10752600">
            <a:off x="311760" y="1320120"/>
            <a:ext cx="17265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rot="5136000">
            <a:off x="298080" y="1308600"/>
            <a:ext cx="17283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3" y="19"/>
                </a:moveTo>
                <a:arcTo wR="10800" hR="10800" stAng="-5606136" swAng="5305113"/>
                <a:lnTo>
                  <a:pt x="10800" y="10800"/>
                </a:lnTo>
                <a:close/>
              </a:path>
              <a:path fill="none" w="21600" h="21600">
                <a:moveTo>
                  <a:pt x="10153" y="19"/>
                </a:moveTo>
                <a:arcTo wR="10800" hR="10800" stAng="-5606136" swAng="5305113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rot="38400">
            <a:off x="294480" y="1301760"/>
            <a:ext cx="1726560" cy="172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405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40578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16090200">
            <a:off x="284040" y="1325520"/>
            <a:ext cx="172872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9" y="41"/>
                </a:moveTo>
                <a:arcTo wR="10800" hR="10800" stAng="-5699860" swAng="5692354"/>
                <a:lnTo>
                  <a:pt x="10800" y="10800"/>
                </a:lnTo>
                <a:close/>
              </a:path>
              <a:path fill="none" w="21600" h="21600">
                <a:moveTo>
                  <a:pt x="9859" y="41"/>
                </a:moveTo>
                <a:arcTo wR="10800" hR="10800" stAng="-5699860" swAng="5692354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84320" y="1784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98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230480" y="735120"/>
                <a:ext cx="230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581360" y="2162160"/>
                <a:ext cx="257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304920" y="172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780160" y="2214720"/>
                <a:ext cx="2444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 rot="14335200">
            <a:off x="3276720" y="1329840"/>
            <a:ext cx="2802960" cy="27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3828207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3828207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 rot="4083000">
            <a:off x="5839200" y="278640"/>
            <a:ext cx="2802960" cy="278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051156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051156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rot="20187000">
            <a:off x="8227080" y="1629720"/>
            <a:ext cx="1407960" cy="103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28" y="115"/>
                </a:moveTo>
                <a:arcTo wR="10800" hR="10800" stAng="-5902271" swAng="4013601"/>
                <a:lnTo>
                  <a:pt x="10800" y="10800"/>
                </a:lnTo>
                <a:close/>
              </a:path>
              <a:path fill="none" w="21600" h="21600">
                <a:moveTo>
                  <a:pt x="9228" y="115"/>
                </a:moveTo>
                <a:arcTo wR="10800" hR="10800" stAng="-5902271" swAng="4013601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05200" y="211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 rot="20758800">
            <a:off x="5606280" y="530280"/>
            <a:ext cx="274176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8" y="86"/>
                </a:moveTo>
                <a:arcTo wR="10800" hR="10800" stAng="-5834751" swAng="4167502"/>
                <a:lnTo>
                  <a:pt x="10800" y="10800"/>
                </a:lnTo>
                <a:close/>
              </a:path>
              <a:path fill="none" w="21600" h="21600">
                <a:moveTo>
                  <a:pt x="9438" y="86"/>
                </a:moveTo>
                <a:arcTo wR="10800" hR="10800" stAng="-5834751" swAng="4167502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61120" y="21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 rot="10389600">
            <a:off x="3394800" y="1301400"/>
            <a:ext cx="2923920" cy="287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1" y="1"/>
                </a:moveTo>
                <a:arcTo wR="10800" hR="10800" stAng="-5441211" swAng="3533737"/>
                <a:lnTo>
                  <a:pt x="10800" y="10800"/>
                </a:lnTo>
                <a:close/>
              </a:path>
              <a:path fill="none" w="21600" h="21600">
                <a:moveTo>
                  <a:pt x="10671" y="1"/>
                </a:moveTo>
                <a:arcTo wR="10800" hR="10800" stAng="-5441211" swAng="3533737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1240" y="1909800"/>
                <a:ext cx="23328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 flipV="1">
            <a:off x="5943600" y="2048040"/>
            <a:ext cx="1260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130400" y="3111480"/>
                <a:ext cx="32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894360" y="2201760"/>
                <a:ext cx="357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119320" y="2195640"/>
                <a:ext cx="3445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8255160" y="2138400"/>
                <a:ext cx="360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556080" y="2112840"/>
            <a:ext cx="12002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54520" y="2112840"/>
            <a:ext cx="11984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50080" y="2116080"/>
            <a:ext cx="1182600" cy="18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47080" y="2117880"/>
            <a:ext cx="11617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68400" y="3414600"/>
            <a:ext cx="54975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Свойства функции у=sinx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95120" y="3762360"/>
                <a:ext cx="18464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04840" y="4102200"/>
                <a:ext cx="12841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66680" y="4344840"/>
                <a:ext cx="942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55520" y="4556160"/>
                <a:ext cx="2416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ечетна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1160640" y="1600200"/>
            <a:ext cx="66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125360" y="2741760"/>
            <a:ext cx="66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163520" y="1612440"/>
            <a:ext cx="63828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2163600"/>
            <a:ext cx="65592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1680" y="1384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60680" y="2674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4560" y="1425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97040" y="2505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7320" y="5578560"/>
                <a:ext cx="2158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33280" y="5800680"/>
                <a:ext cx="2579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39760" y="6238800"/>
                <a:ext cx="2889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932280" y="4051440"/>
                <a:ext cx="41562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984480" y="4641840"/>
                <a:ext cx="416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694400" y="1251000"/>
            <a:ext cx="145800" cy="15228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02080" y="200808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54080" y="2070000"/>
            <a:ext cx="146160" cy="15264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20937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03400" y="1212840"/>
            <a:ext cx="145800" cy="15228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108920" y="2970360"/>
            <a:ext cx="145800" cy="15228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815080" y="203508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21680" y="2006640"/>
            <a:ext cx="14616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30360" y="2043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181240" y="1469880"/>
                <a:ext cx="403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 flipV="1" rot="20947800">
            <a:off x="877680" y="423360"/>
            <a:ext cx="274212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78" y="39"/>
                </a:moveTo>
                <a:arcTo wR="10800" hR="10800" stAng="-5693798" swAng="3808531"/>
                <a:lnTo>
                  <a:pt x="10800" y="10800"/>
                </a:lnTo>
                <a:close/>
              </a:path>
              <a:path fill="none" w="21600" h="21600">
                <a:moveTo>
                  <a:pt x="9878" y="39"/>
                </a:moveTo>
                <a:arcTo wR="10800" hR="10800" stAng="-5693798" swAng="3808531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373480" y="2103120"/>
            <a:ext cx="6580080" cy="3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51400" y="1310760"/>
            <a:ext cx="0" cy="1630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126800" y="1293840"/>
            <a:ext cx="28440" cy="175248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98600" y="2898720"/>
            <a:ext cx="146160" cy="15228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 rot="20947200">
            <a:off x="796680" y="393480"/>
            <a:ext cx="2822400" cy="258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78" y="39"/>
                </a:moveTo>
                <a:arcTo wR="10800" hR="10800" stAng="-5693798" swAng="3934276"/>
                <a:lnTo>
                  <a:pt x="10800" y="10800"/>
                </a:lnTo>
                <a:close/>
              </a:path>
              <a:path fill="none" w="21600" h="21600">
                <a:moveTo>
                  <a:pt x="9878" y="39"/>
                </a:moveTo>
                <a:arcTo wR="10800" hR="10800" stAng="-5693798" swAng="3934276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 rot="10213200">
            <a:off x="3401280" y="1306800"/>
            <a:ext cx="2834280" cy="27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13" y="89"/>
                </a:moveTo>
                <a:arcTo wR="10800" hR="10800" stAng="-5842644" swAng="3851892"/>
                <a:lnTo>
                  <a:pt x="10800" y="10800"/>
                </a:lnTo>
                <a:close/>
              </a:path>
              <a:path fill="none" w="21600" h="21600">
                <a:moveTo>
                  <a:pt x="9413" y="89"/>
                </a:moveTo>
                <a:arcTo wR="10800" hR="10800" stAng="-5842644" swAng="3851892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 rot="14335200">
            <a:off x="3292200" y="1333080"/>
            <a:ext cx="280368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3599391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3599391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 rot="4201800">
            <a:off x="5851080" y="281520"/>
            <a:ext cx="280116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109322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109322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 rot="20415000">
            <a:off x="5654520" y="542160"/>
            <a:ext cx="2685240" cy="25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07" y="225"/>
                </a:moveTo>
                <a:arcTo wR="10800" hR="10800" stAng="-6103049" swAng="4114789"/>
                <a:lnTo>
                  <a:pt x="10800" y="10800"/>
                </a:lnTo>
                <a:close/>
              </a:path>
              <a:path fill="none" w="21600" h="21600">
                <a:moveTo>
                  <a:pt x="8607" y="225"/>
                </a:moveTo>
                <a:arcTo wR="10800" hR="10800" stAng="-6103049" swAng="4114789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rot="20587200">
            <a:off x="8264160" y="1617120"/>
            <a:ext cx="1407600" cy="103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32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3239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 rot="21222600">
            <a:off x="1901520" y="2072160"/>
            <a:ext cx="891000" cy="89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9465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946588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1953360" y="2442960"/>
            <a:ext cx="762120" cy="51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0747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07477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233960" y="6342120"/>
                <a:ext cx="6667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938760" y="5578560"/>
                <a:ext cx="30034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 flipV="1" rot="10244400">
            <a:off x="3393000" y="1311840"/>
            <a:ext cx="2803680" cy="278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13" y="89"/>
                </a:moveTo>
                <a:arcTo wR="10800" hR="10800" stAng="-5842644" swAng="3683567"/>
                <a:lnTo>
                  <a:pt x="10800" y="10800"/>
                </a:lnTo>
                <a:close/>
              </a:path>
              <a:path fill="none" w="21600" h="21600">
                <a:moveTo>
                  <a:pt x="9413" y="89"/>
                </a:moveTo>
                <a:arcTo wR="10800" hR="10800" stAng="-5842644" swAng="3683567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 rot="14098800">
            <a:off x="3301560" y="1337040"/>
            <a:ext cx="280440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2" y="99"/>
                </a:moveTo>
                <a:arcTo wR="10800" hR="10800" stAng="-5865487" swAng="3759244"/>
                <a:lnTo>
                  <a:pt x="10800" y="10800"/>
                </a:lnTo>
                <a:close/>
              </a:path>
              <a:path fill="none" w="21600" h="21600">
                <a:moveTo>
                  <a:pt x="9342" y="99"/>
                </a:moveTo>
                <a:arcTo wR="10800" hR="10800" stAng="-5865487" swAng="3759244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924360" y="5952960"/>
                <a:ext cx="35654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l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 flipV="1" rot="4092000">
            <a:off x="5836680" y="278280"/>
            <a:ext cx="2801520" cy="278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109322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109322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 rot="20571000">
            <a:off x="5657040" y="525960"/>
            <a:ext cx="2685240" cy="252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07" y="225"/>
                </a:moveTo>
                <a:arcTo wR="10800" hR="10800" stAng="-6103049" swAng="4114789"/>
                <a:lnTo>
                  <a:pt x="10800" y="10800"/>
                </a:lnTo>
                <a:close/>
              </a:path>
              <a:path fill="none" w="21600" h="21600">
                <a:moveTo>
                  <a:pt x="8607" y="225"/>
                </a:moveTo>
                <a:arcTo wR="10800" hR="10800" stAng="-6103049" swAng="4114789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rot="20588400">
            <a:off x="8274600" y="1597680"/>
            <a:ext cx="1409040" cy="103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7538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75382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 rot="21270000">
            <a:off x="954360" y="358920"/>
            <a:ext cx="2648880" cy="260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05" y="11"/>
                </a:moveTo>
                <a:arcTo wR="10800" hR="10800" stAng="-5557632" swAng="4184762"/>
                <a:lnTo>
                  <a:pt x="10800" y="10800"/>
                </a:lnTo>
                <a:close/>
              </a:path>
              <a:path fill="none" w="21600" h="21600">
                <a:moveTo>
                  <a:pt x="10305" y="11"/>
                </a:moveTo>
                <a:arcTo wR="10800" hR="10800" stAng="-5557632" swAng="4184762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056120" y="3933720"/>
                <a:ext cx="2070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монотонност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002120" y="5216400"/>
                <a:ext cx="42037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ромежутк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знакопостоянств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 flipH="1" flipV="1" rot="466200">
            <a:off x="1913400" y="2376000"/>
            <a:ext cx="780480" cy="58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19" y="419"/>
                </a:moveTo>
                <a:arcTo wR="10800" hR="10800" stAng="-6361227" swAng="4805041"/>
                <a:lnTo>
                  <a:pt x="10800" y="10800"/>
                </a:lnTo>
                <a:close/>
              </a:path>
              <a:path fill="none" w="21600" h="21600">
                <a:moveTo>
                  <a:pt x="7819" y="419"/>
                </a:moveTo>
                <a:arcTo wR="10800" hR="10800" stAng="-6361227" swAng="4805041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146240" y="1279080"/>
            <a:ext cx="0" cy="838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44440" y="2147400"/>
            <a:ext cx="0" cy="870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406600" y="2111400"/>
            <a:ext cx="2327400" cy="14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40600" y="2111400"/>
            <a:ext cx="17874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34000" y="2111400"/>
            <a:ext cx="240804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51400" y="2103480"/>
            <a:ext cx="233352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80360" y="2103480"/>
            <a:ext cx="63972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22440" y="210168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13360" y="2103480"/>
            <a:ext cx="2379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95320" y="9698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36360" y="2141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8200" y="31003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63840" y="21668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039760" y="1382760"/>
            <a:ext cx="3086280" cy="14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079960" y="1106640"/>
                <a:ext cx="297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860480" y="2863800"/>
                <a:ext cx="339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10960" y="4849920"/>
                <a:ext cx="2394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симметричн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71440" y="4916520"/>
                <a:ext cx="2798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носительно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точки</m:t>
                    </m:r>
                    <m:limLow>
                      <m:e/>
                      <m:lim/>
                    </m:limLow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37960" y="5272200"/>
                <a:ext cx="1873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217440" y="2073240"/>
            <a:ext cx="146160" cy="15228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50840" y="2951280"/>
            <a:ext cx="146160" cy="15228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5715000" y="-419040"/>
            <a:ext cx="419040" cy="4686480"/>
          </a:xfrm>
          <a:custGeom>
            <a:avLst/>
            <a:gdLst>
              <a:gd name="textAreaLeft" fmla="*/ 267840 w 419040"/>
              <a:gd name="textAreaRight" fmla="*/ 419400 w 419040"/>
              <a:gd name="textAreaTop" fmla="*/ 122040 h 4686480"/>
              <a:gd name="textAreaBottom" fmla="*/ 4564440 h 468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2320" y="129528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1960" y="1308240"/>
            <a:ext cx="1701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304560" y="1243800"/>
            <a:ext cx="165024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06720" y="134640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2320" y="129528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91960" y="1308240"/>
            <a:ext cx="1701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304560" y="1243800"/>
            <a:ext cx="165024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06720" y="134640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77920"/>
            <a:ext cx="83026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остроение графика функции у=cosx</a:t>
            </a:r>
            <a:endParaRPr b="0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139760" y="953640"/>
            <a:ext cx="31680" cy="23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6360" y="1325520"/>
            <a:ext cx="172872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351160" y="2112480"/>
            <a:ext cx="6678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759200" y="92376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91160" y="1343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73520" y="3070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753080" y="208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34120" y="20923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07360" y="20559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57520" y="203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78760" y="95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89760" y="2852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rot="10752600">
            <a:off x="311760" y="1320120"/>
            <a:ext cx="17265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rot="5136000">
            <a:off x="298080" y="1308600"/>
            <a:ext cx="17283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3" y="19"/>
                </a:moveTo>
                <a:arcTo wR="10800" hR="10800" stAng="-5606136" swAng="5305113"/>
                <a:lnTo>
                  <a:pt x="10800" y="10800"/>
                </a:lnTo>
                <a:close/>
              </a:path>
              <a:path fill="none" w="21600" h="21600">
                <a:moveTo>
                  <a:pt x="10153" y="19"/>
                </a:moveTo>
                <a:arcTo wR="10800" hR="10800" stAng="-5606136" swAng="5305113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rot="38400">
            <a:off x="294480" y="1301760"/>
            <a:ext cx="1726560" cy="172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405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40578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rot="16090200">
            <a:off x="284040" y="1325520"/>
            <a:ext cx="172872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9" y="41"/>
                </a:moveTo>
                <a:arcTo wR="10800" hR="10800" stAng="-5699860" swAng="5692354"/>
                <a:lnTo>
                  <a:pt x="10800" y="10800"/>
                </a:lnTo>
                <a:close/>
              </a:path>
              <a:path fill="none" w="21600" h="21600">
                <a:moveTo>
                  <a:pt x="9859" y="41"/>
                </a:moveTo>
                <a:arcTo wR="10800" hR="10800" stAng="-5699860" swAng="5692354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84320" y="1784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76520" y="98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230480" y="735120"/>
                <a:ext cx="230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692680" y="2165400"/>
                <a:ext cx="257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304920" y="172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7047000" y="2278080"/>
                <a:ext cx="2444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 flipV="1" rot="14335200">
            <a:off x="3276720" y="1329840"/>
            <a:ext cx="2802960" cy="27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3828207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3828207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 rot="4083000">
            <a:off x="5839200" y="278640"/>
            <a:ext cx="2802960" cy="278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051156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051156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rot="20187000">
            <a:off x="8227080" y="1629720"/>
            <a:ext cx="1407960" cy="103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28" y="115"/>
                </a:moveTo>
                <a:arcTo wR="10800" hR="10800" stAng="-5902271" swAng="4013601"/>
                <a:lnTo>
                  <a:pt x="10800" y="10800"/>
                </a:lnTo>
                <a:close/>
              </a:path>
              <a:path fill="none" w="21600" h="21600">
                <a:moveTo>
                  <a:pt x="9228" y="115"/>
                </a:moveTo>
                <a:arcTo wR="10800" hR="10800" stAng="-5902271" swAng="4013601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43120" y="21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 rot="20758800">
            <a:off x="5606280" y="530280"/>
            <a:ext cx="274176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8" y="86"/>
                </a:moveTo>
                <a:arcTo wR="10800" hR="10800" stAng="-5834751" swAng="4167502"/>
                <a:lnTo>
                  <a:pt x="10800" y="10800"/>
                </a:lnTo>
                <a:close/>
              </a:path>
              <a:path fill="none" w="21600" h="21600">
                <a:moveTo>
                  <a:pt x="9438" y="86"/>
                </a:moveTo>
                <a:arcTo wR="10800" hR="10800" stAng="-5834751" swAng="4167502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73720" y="209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 rot="10389600">
            <a:off x="3458520" y="1311480"/>
            <a:ext cx="280476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1" y="1"/>
                </a:moveTo>
                <a:arcTo wR="10800" hR="10800" stAng="-5441211" swAng="3566471"/>
                <a:lnTo>
                  <a:pt x="10800" y="10800"/>
                </a:lnTo>
                <a:close/>
              </a:path>
              <a:path fill="none" w="21600" h="21600">
                <a:moveTo>
                  <a:pt x="10671" y="1"/>
                </a:moveTo>
                <a:arcTo wR="10800" hR="10800" stAng="-5441211" swAng="3566471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76320" y="1887480"/>
                <a:ext cx="23328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flipV="1">
            <a:off x="5943600" y="2048040"/>
            <a:ext cx="1260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93800" y="3314880"/>
                <a:ext cx="32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8342280" y="2203560"/>
                <a:ext cx="357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038320" y="2209680"/>
                <a:ext cx="344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556080" y="2112840"/>
            <a:ext cx="12002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54520" y="2112840"/>
            <a:ext cx="11984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50080" y="2116080"/>
            <a:ext cx="1182600" cy="18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147080" y="2117880"/>
            <a:ext cx="11617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868400" y="3602160"/>
            <a:ext cx="549756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Свойства функции у=cosx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01600" y="3902040"/>
                <a:ext cx="2008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 flipV="1">
            <a:off x="1177920" y="1584000"/>
            <a:ext cx="60948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77920" y="2192400"/>
            <a:ext cx="65556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31680" y="1384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39960" y="2577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93680" y="5513400"/>
                <a:ext cx="2368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0" y="6024600"/>
                <a:ext cx="2176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0" y="6361200"/>
                <a:ext cx="27655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102200" y="4170240"/>
                <a:ext cx="3173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133880" y="4514760"/>
                <a:ext cx="3162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4694400" y="1251000"/>
            <a:ext cx="145800" cy="15228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02080" y="200808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4200" y="20667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20937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40040" y="2077920"/>
            <a:ext cx="145800" cy="15264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67520" y="2968560"/>
            <a:ext cx="146160" cy="15264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29480" y="2035080"/>
            <a:ext cx="14580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221680" y="2006640"/>
            <a:ext cx="14616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30360" y="2043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218040" y="1438200"/>
                <a:ext cx="403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 rot="20990400">
            <a:off x="884880" y="503640"/>
            <a:ext cx="274248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78" y="39"/>
                </a:moveTo>
                <a:arcTo wR="10800" hR="10800" stAng="-5693798" swAng="4026550"/>
                <a:lnTo>
                  <a:pt x="10800" y="10800"/>
                </a:lnTo>
                <a:close/>
              </a:path>
              <a:path fill="none" w="21600" h="21600">
                <a:moveTo>
                  <a:pt x="9878" y="39"/>
                </a:moveTo>
                <a:arcTo wR="10800" hR="10800" stAng="-5693798" swAng="4026550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373480" y="2103120"/>
            <a:ext cx="6580080" cy="3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756320" y="1327320"/>
            <a:ext cx="0" cy="17524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68200" y="2154240"/>
            <a:ext cx="1752840" cy="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13000" y="2971800"/>
            <a:ext cx="146160" cy="15228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 rot="20947200">
            <a:off x="891000" y="486720"/>
            <a:ext cx="274284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78" y="39"/>
                </a:moveTo>
                <a:arcTo wR="10800" hR="10800" stAng="-5693798" swAng="4026550"/>
                <a:lnTo>
                  <a:pt x="10800" y="10800"/>
                </a:lnTo>
                <a:close/>
              </a:path>
              <a:path fill="none" w="21600" h="21600">
                <a:moveTo>
                  <a:pt x="9878" y="39"/>
                </a:moveTo>
                <a:arcTo wR="10800" hR="10800" stAng="-5693798" swAng="4026550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 rot="10182000">
            <a:off x="3451320" y="1318680"/>
            <a:ext cx="2803320" cy="278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13" y="89"/>
                </a:moveTo>
                <a:arcTo wR="10800" hR="10800" stAng="-5842644" swAng="3683567"/>
                <a:lnTo>
                  <a:pt x="10800" y="10800"/>
                </a:lnTo>
                <a:close/>
              </a:path>
              <a:path fill="none" w="21600" h="21600">
                <a:moveTo>
                  <a:pt x="9413" y="89"/>
                </a:moveTo>
                <a:arcTo wR="10800" hR="10800" stAng="-5842644" swAng="3683567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 rot="14335200">
            <a:off x="3292200" y="1333080"/>
            <a:ext cx="280368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3599391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3599391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 rot="4201800">
            <a:off x="5851080" y="281520"/>
            <a:ext cx="280116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109322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109322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 rot="20415000">
            <a:off x="5654520" y="542160"/>
            <a:ext cx="2685240" cy="25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07" y="225"/>
                </a:moveTo>
                <a:arcTo wR="10800" hR="10800" stAng="-6103049" swAng="4114789"/>
                <a:lnTo>
                  <a:pt x="10800" y="10800"/>
                </a:lnTo>
                <a:close/>
              </a:path>
              <a:path fill="none" w="21600" h="21600">
                <a:moveTo>
                  <a:pt x="8607" y="225"/>
                </a:moveTo>
                <a:arcTo wR="10800" hR="10800" stAng="-6103049" swAng="4114789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rot="20587200">
            <a:off x="8264160" y="1617120"/>
            <a:ext cx="1407600" cy="103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32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3239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2014560" y="2813760"/>
            <a:ext cx="681840" cy="2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1960560" y="2721600"/>
            <a:ext cx="681840" cy="3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4336920" y="6329520"/>
                <a:ext cx="706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90440" y="4403880"/>
                <a:ext cx="264636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ериодичность</m:t>
                    </m:r>
                    <m:r>
                      <m:t xml:space="preserve">: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71360" y="4605480"/>
                <a:ext cx="1965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четн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06280" y="4181400"/>
                <a:ext cx="13543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265480" y="1773360"/>
                <a:ext cx="40140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2138400"/>
            <a:ext cx="22906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154160" y="3089160"/>
                <a:ext cx="403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 flipH="1">
            <a:off x="1798560" y="1566720"/>
            <a:ext cx="1584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812960" y="214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046400" y="5240160"/>
                <a:ext cx="3240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 rot="10197600">
            <a:off x="3445200" y="1321920"/>
            <a:ext cx="2803320" cy="27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13" y="89"/>
                </a:moveTo>
                <a:arcTo wR="10800" hR="10800" stAng="-5842644" swAng="3683567"/>
                <a:lnTo>
                  <a:pt x="10800" y="10800"/>
                </a:lnTo>
                <a:close/>
              </a:path>
              <a:path fill="none" w="21600" h="21600">
                <a:moveTo>
                  <a:pt x="9413" y="89"/>
                </a:moveTo>
                <a:arcTo wR="10800" hR="10800" stAng="-5842644" swAng="3683567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 rot="14106600">
            <a:off x="3308040" y="1346400"/>
            <a:ext cx="2805480" cy="278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2" y="99"/>
                </a:moveTo>
                <a:arcTo wR="10800" hR="10800" stAng="-5865487" swAng="3580914"/>
                <a:lnTo>
                  <a:pt x="10800" y="10800"/>
                </a:lnTo>
                <a:close/>
              </a:path>
              <a:path fill="none" w="21600" h="21600">
                <a:moveTo>
                  <a:pt x="9342" y="99"/>
                </a:moveTo>
                <a:arcTo wR="10800" hR="10800" stAng="-5865487" swAng="3580914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084560" y="5800680"/>
                <a:ext cx="3186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l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 flipV="1" rot="4147200">
            <a:off x="5850000" y="284040"/>
            <a:ext cx="2801160" cy="27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109322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109322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 rot="20518800">
            <a:off x="5649840" y="535320"/>
            <a:ext cx="2685240" cy="252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07" y="225"/>
                </a:moveTo>
                <a:arcTo wR="10800" hR="10800" stAng="-6103049" swAng="4114789"/>
                <a:lnTo>
                  <a:pt x="10800" y="10800"/>
                </a:lnTo>
                <a:close/>
              </a:path>
              <a:path fill="none" w="21600" h="21600">
                <a:moveTo>
                  <a:pt x="8607" y="225"/>
                </a:moveTo>
                <a:arcTo wR="10800" hR="10800" stAng="-6103049" swAng="4114789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144440" y="1279080"/>
            <a:ext cx="0" cy="838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160640" y="2147760"/>
            <a:ext cx="0" cy="898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 rot="20777400">
            <a:off x="8265600" y="1617120"/>
            <a:ext cx="1409040" cy="103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4264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42641"/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 rot="20947200">
            <a:off x="895680" y="493200"/>
            <a:ext cx="274284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78" y="39"/>
                </a:moveTo>
                <a:arcTo wR="10800" hR="10800" stAng="-5693798" swAng="4026550"/>
                <a:lnTo>
                  <a:pt x="10800" y="10800"/>
                </a:lnTo>
                <a:close/>
              </a:path>
              <a:path fill="none" w="21600" h="21600">
                <a:moveTo>
                  <a:pt x="9878" y="39"/>
                </a:moveTo>
                <a:arcTo wR="10800" hR="10800" stAng="-5693798" swAng="4026550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978200" y="2723040"/>
            <a:ext cx="681840" cy="3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164120" y="3948120"/>
                <a:ext cx="2016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монотонность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4138560" y="4933800"/>
                <a:ext cx="39798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ромежутк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знакопостоянства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>
            <a:off x="2408400" y="2103480"/>
            <a:ext cx="233172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02440" y="2090880"/>
            <a:ext cx="187632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40120" y="2103480"/>
            <a:ext cx="239256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2103480"/>
            <a:ext cx="23004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346960" y="2090880"/>
            <a:ext cx="60984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63760" y="2098800"/>
            <a:ext cx="120024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08680" y="2103480"/>
            <a:ext cx="239544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64000" y="90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4440" y="30272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00" y="215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37000" y="180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536480" y="207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23920" y="4821120"/>
                <a:ext cx="2394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симметричн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47680" y="4881600"/>
                <a:ext cx="260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носительно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ос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О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04840" y="5299200"/>
                <a:ext cx="1714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1076400" y="1247760"/>
            <a:ext cx="145800" cy="15228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81080" y="2979720"/>
            <a:ext cx="146160" cy="15228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19240" y="2055960"/>
            <a:ext cx="145800" cy="152280"/>
          </a:xfrm>
          <a:prstGeom prst="donut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400000">
            <a:off x="5784840" y="-412560"/>
            <a:ext cx="291960" cy="4673520"/>
          </a:xfrm>
          <a:custGeom>
            <a:avLst/>
            <a:gdLst>
              <a:gd name="textAreaLeft" fmla="*/ 186480 w 291960"/>
              <a:gd name="textAreaRight" fmla="*/ 292320 w 291960"/>
              <a:gd name="textAreaTop" fmla="*/ 121680 h 4673520"/>
              <a:gd name="textAreaBottom" fmla="*/ 4551840 h 467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92320" y="129528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91960" y="1308240"/>
            <a:ext cx="1701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304560" y="1243800"/>
            <a:ext cx="165024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06720" y="1346400"/>
            <a:ext cx="172656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 flipV="1">
            <a:off x="1139760" y="953640"/>
            <a:ext cx="31680" cy="235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6360" y="1225440"/>
            <a:ext cx="172872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222640" y="2095200"/>
            <a:ext cx="662436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745160" y="72684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78200" y="13431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62360" y="29559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753080" y="208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34120" y="20289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236080" y="202716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57520" y="203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2160" y="114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53120" y="2801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84320" y="1784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97120" y="1008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1230480" y="735120"/>
                <a:ext cx="230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707080" y="2065320"/>
                <a:ext cx="247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7062840" y="2130480"/>
                <a:ext cx="231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 flipV="1" rot="21189600">
            <a:off x="3513960" y="-1892880"/>
            <a:ext cx="214812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 rot="9875400">
            <a:off x="6220080" y="2057760"/>
            <a:ext cx="2687400" cy="377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051156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051156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43120" y="21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 rot="19917000">
            <a:off x="5324040" y="-375840"/>
            <a:ext cx="274140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8" y="86"/>
                </a:moveTo>
                <a:arcTo wR="10800" hR="10800" stAng="-5834751" swAng="4167502"/>
                <a:lnTo>
                  <a:pt x="10800" y="10800"/>
                </a:lnTo>
                <a:close/>
              </a:path>
              <a:path fill="none" w="21600" h="21600">
                <a:moveTo>
                  <a:pt x="9438" y="86"/>
                </a:moveTo>
                <a:arcTo wR="10800" hR="10800" stAng="-5834751" swAng="4167502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473720" y="209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 rot="9286200">
            <a:off x="3912840" y="1951560"/>
            <a:ext cx="3199680" cy="45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170" swAng="359562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170" swAng="3595627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3360" y="2182680"/>
                <a:ext cx="23364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 flipV="1">
            <a:off x="5943600" y="2048040"/>
            <a:ext cx="1260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793800" y="3178080"/>
                <a:ext cx="3268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285040" y="2089080"/>
                <a:ext cx="357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014560" y="2173320"/>
                <a:ext cx="344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 flipV="1">
            <a:off x="1163520" y="1504440"/>
            <a:ext cx="866880" cy="5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65320" y="2122560"/>
            <a:ext cx="884160" cy="6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49240" y="1258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36560" y="25876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68480" y="20397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164440" y="2021040"/>
            <a:ext cx="146160" cy="1378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91160" y="1998720"/>
            <a:ext cx="14580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98840" y="20271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338560" y="2013120"/>
            <a:ext cx="17136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066080" y="2001960"/>
            <a:ext cx="14580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30360" y="2043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127320" y="2021040"/>
                <a:ext cx="403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295360" y="1827360"/>
                <a:ext cx="4017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0" y="2114640"/>
            <a:ext cx="211932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152360" y="2930400"/>
                <a:ext cx="382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921240" y="90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16120" y="2932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18129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82720" y="18111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64000" y="911160"/>
            <a:ext cx="0" cy="268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34240" y="78120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40760" y="693720"/>
            <a:ext cx="12600" cy="279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 rot="21189600">
            <a:off x="1204200" y="-1904040"/>
            <a:ext cx="214812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864400" y="2028960"/>
            <a:ext cx="145800" cy="1378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93680" y="1154160"/>
            <a:ext cx="14616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69920" y="2879640"/>
            <a:ext cx="14616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90440" y="1177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044440" y="887400"/>
            <a:ext cx="1404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05200" y="2649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8840" y="6764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98600" y="236520"/>
            <a:ext cx="83026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остроение графика функции у=tgx</a:t>
            </a:r>
            <a:endParaRPr b="0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313920" y="1270800"/>
            <a:ext cx="1638000" cy="168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14280" y="1243080"/>
            <a:ext cx="1692000" cy="171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3600" y="1241280"/>
            <a:ext cx="1774080" cy="172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49840" y="1254240"/>
            <a:ext cx="1799280" cy="169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65440" y="2087640"/>
            <a:ext cx="1189080" cy="1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54520" y="2103480"/>
            <a:ext cx="11732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43600" y="2103480"/>
            <a:ext cx="11588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132680" y="2087640"/>
            <a:ext cx="1096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976400" y="3603600"/>
            <a:ext cx="54975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Свойства функции у=tgx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31840" y="3981600"/>
                <a:ext cx="20178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:</m:t>
                    </m:r>
                    <m:r>
                      <m:t xml:space="preserve">х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20840" y="5716440"/>
                <a:ext cx="2062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при</m:t>
                    </m:r>
                    <m:limLow>
                      <m:e/>
                      <m:lim/>
                    </m:limLow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411800" y="4148280"/>
                <a:ext cx="3862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537080" y="6221520"/>
                <a:ext cx="706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37960" y="4836960"/>
                <a:ext cx="2662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ериодичность</m:t>
                    </m:r>
                    <m:r>
                      <m:t xml:space="preserve">: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85760" y="5079960"/>
                <a:ext cx="2681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ечетная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39760" y="4529160"/>
                <a:ext cx="1836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4467240" y="5580000"/>
                <a:ext cx="31068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l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486320" y="5049720"/>
                <a:ext cx="2732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а</m:t>
                    </m:r>
                    <m:limLow>
                      <m:e/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4433760" y="4025880"/>
                <a:ext cx="21672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монотонность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375080" y="4768920"/>
                <a:ext cx="409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ромежутк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знакопостоянства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5080" y="5386320"/>
                <a:ext cx="209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Нул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функции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"/>
          <p:cNvSpPr/>
          <p:nvPr/>
        </p:nvSpPr>
        <p:spPr>
          <a:xfrm>
            <a:off x="2270160" y="2087640"/>
            <a:ext cx="64324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2027160" y="960120"/>
            <a:ext cx="30240" cy="2484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740120" y="821880"/>
            <a:ext cx="0" cy="268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 rot="9315000">
            <a:off x="3918600" y="1940760"/>
            <a:ext cx="3199680" cy="45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170" swAng="359562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170" swAng="3595627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 rot="9852000">
            <a:off x="6219720" y="2050560"/>
            <a:ext cx="2691000" cy="377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72" y="8"/>
                </a:moveTo>
                <a:arcTo wR="10800" hR="10800" stAng="-5536164" swAng="3953796"/>
                <a:lnTo>
                  <a:pt x="10800" y="10800"/>
                </a:lnTo>
                <a:close/>
              </a:path>
              <a:path fill="none" w="21600" h="21600">
                <a:moveTo>
                  <a:pt x="10372" y="8"/>
                </a:moveTo>
                <a:arcTo wR="10800" hR="10800" stAng="-5536164" swAng="3953796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530520" y="2082960"/>
            <a:ext cx="1235160" cy="158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19840" y="2098800"/>
            <a:ext cx="1204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 rot="21025200">
            <a:off x="1156680" y="-1908000"/>
            <a:ext cx="214776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2087640"/>
            <a:ext cx="11131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 rot="21003000">
            <a:off x="3475440" y="-1904040"/>
            <a:ext cx="214776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 rot="19839600">
            <a:off x="5327640" y="-378000"/>
            <a:ext cx="274176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61" y="96"/>
                </a:moveTo>
                <a:arcTo wR="10800" hR="10800" stAng="-5859546" swAng="4192298"/>
                <a:lnTo>
                  <a:pt x="10800" y="10800"/>
                </a:lnTo>
                <a:close/>
              </a:path>
              <a:path fill="none" w="21600" h="21600">
                <a:moveTo>
                  <a:pt x="9361" y="96"/>
                </a:moveTo>
                <a:arcTo wR="10800" hR="10800" stAng="-5859546" swAng="4192298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37240" y="2100240"/>
            <a:ext cx="12175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24760" y="2082960"/>
            <a:ext cx="11286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137440" y="2087640"/>
            <a:ext cx="582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4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3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5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5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6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6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7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7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8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9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9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9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9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0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0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0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0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1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277920"/>
            <a:ext cx="83026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остроение графика функции у=ctgx</a:t>
            </a:r>
            <a:endParaRPr b="0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1139760" y="953640"/>
            <a:ext cx="31680" cy="23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6360" y="1311120"/>
            <a:ext cx="1728720" cy="172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465280" y="2080800"/>
            <a:ext cx="6678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573360" y="71100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92360" y="1241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86240" y="3006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753080" y="208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34120" y="20923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307360" y="20559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557520" y="203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07240" y="1031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46760" y="28065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rot="10752600">
            <a:off x="295920" y="1297800"/>
            <a:ext cx="17265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5136000">
            <a:off x="285120" y="1305360"/>
            <a:ext cx="172836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3" y="19"/>
                </a:moveTo>
                <a:arcTo wR="10800" hR="10800" stAng="-5606136" swAng="5305113"/>
                <a:lnTo>
                  <a:pt x="10800" y="10800"/>
                </a:lnTo>
                <a:close/>
              </a:path>
              <a:path fill="none" w="21600" h="21600">
                <a:moveTo>
                  <a:pt x="10153" y="19"/>
                </a:moveTo>
                <a:arcTo wR="10800" hR="10800" stAng="-5606136" swAng="5305113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rot="38400">
            <a:off x="285120" y="1303200"/>
            <a:ext cx="1726560" cy="17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405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40578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 rot="16090200">
            <a:off x="291960" y="1311120"/>
            <a:ext cx="172872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9" y="41"/>
                </a:moveTo>
                <a:arcTo wR="10800" hR="10800" stAng="-5699860" swAng="5692354"/>
                <a:lnTo>
                  <a:pt x="10800" y="10800"/>
                </a:lnTo>
                <a:close/>
              </a:path>
              <a:path fill="none" w="21600" h="21600">
                <a:moveTo>
                  <a:pt x="9859" y="41"/>
                </a:moveTo>
                <a:arcTo wR="10800" hR="10800" stAng="-5699860" swAng="5692354"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84320" y="1784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97120" y="1008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1230480" y="735120"/>
                <a:ext cx="230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657680" y="2120760"/>
                <a:ext cx="25740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5675400" y="2187720"/>
                <a:ext cx="2444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 rot="410400">
            <a:off x="3555720" y="2099520"/>
            <a:ext cx="214776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11724600">
            <a:off x="6162480" y="-1653120"/>
            <a:ext cx="2688120" cy="377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7" y="25"/>
                </a:moveTo>
                <a:arcTo wR="10800" hR="10800" stAng="-5633524" swAng="4051156"/>
                <a:lnTo>
                  <a:pt x="10800" y="10800"/>
                </a:lnTo>
                <a:close/>
              </a:path>
              <a:path fill="none" w="21600" h="21600">
                <a:moveTo>
                  <a:pt x="10067" y="25"/>
                </a:moveTo>
                <a:arcTo wR="10800" hR="10800" stAng="-5633524" swAng="4051156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43120" y="21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683000">
            <a:off x="5297040" y="1994760"/>
            <a:ext cx="2741760" cy="25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8" y="86"/>
                </a:moveTo>
                <a:arcTo wR="10800" hR="10800" stAng="-5834751" swAng="4167502"/>
                <a:lnTo>
                  <a:pt x="10800" y="10800"/>
                </a:lnTo>
                <a:close/>
              </a:path>
              <a:path fill="none" w="21600" h="21600">
                <a:moveTo>
                  <a:pt x="9438" y="86"/>
                </a:moveTo>
                <a:arcTo wR="10800" hR="10800" stAng="-5834751" swAng="4167502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91200" y="218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2313800">
            <a:off x="3898080" y="-2343240"/>
            <a:ext cx="3199680" cy="45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170" swAng="359562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170" swAng="3595627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0" y="2182680"/>
                <a:ext cx="23328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 flipV="1">
            <a:off x="5943600" y="2048040"/>
            <a:ext cx="1260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93800" y="3314880"/>
                <a:ext cx="32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6970680" y="2127240"/>
                <a:ext cx="357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052720" y="2357280"/>
                <a:ext cx="344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3548160" y="2111400"/>
            <a:ext cx="11998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745160" y="2109960"/>
            <a:ext cx="11984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950080" y="2103480"/>
            <a:ext cx="1182600" cy="144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147080" y="2106720"/>
            <a:ext cx="11617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868400" y="3602160"/>
            <a:ext cx="549756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Свойства функции у=ctgx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74680" y="4056120"/>
                <a:ext cx="1562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:</m:t>
                    </m:r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2" name=""/>
          <p:cNvSpPr/>
          <p:nvPr/>
        </p:nvSpPr>
        <p:spPr>
          <a:xfrm flipV="1">
            <a:off x="1177920" y="1316160"/>
            <a:ext cx="879480" cy="84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87200" y="1290600"/>
            <a:ext cx="1592280" cy="14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57240" y="1390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46000" y="26686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17600" y="5711760"/>
                <a:ext cx="1666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прих</m:t>
                    </m:r>
                    <m:r>
                      <m:t xml:space="preserve">=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597560" y="4251240"/>
                <a:ext cx="2950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1093680" y="12063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248680" y="2035080"/>
            <a:ext cx="14616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91160" y="1998720"/>
            <a:ext cx="14580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98840" y="202716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324160" y="2027160"/>
            <a:ext cx="1713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051680" y="2016000"/>
            <a:ext cx="146160" cy="1526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30360" y="2043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197080" y="1438200"/>
                <a:ext cx="403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2381400" y="2057040"/>
            <a:ext cx="6592680" cy="205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3587760" y="744480"/>
            <a:ext cx="1440" cy="28036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0" y="1284120"/>
            <a:ext cx="2301840" cy="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1375200">
            <a:off x="5403240" y="2009520"/>
            <a:ext cx="2620800" cy="24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9" y="19"/>
                </a:moveTo>
                <a:arcTo wR="10800" hR="10800" stAng="-5604099" swAng="4578690"/>
                <a:lnTo>
                  <a:pt x="10800" y="10800"/>
                </a:lnTo>
                <a:close/>
              </a:path>
              <a:path fill="none" w="21600" h="21600">
                <a:moveTo>
                  <a:pt x="10159" y="19"/>
                </a:moveTo>
                <a:arcTo wR="10800" hR="10800" stAng="-5604099" swAng="4578690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4352760" y="6143760"/>
                <a:ext cx="706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58840" y="4776840"/>
                <a:ext cx="26622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ериодичность</m:t>
                    </m:r>
                    <m:r>
                      <m:t xml:space="preserve">: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23840" y="4965840"/>
                <a:ext cx="26352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нечетн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55600" y="4435560"/>
                <a:ext cx="1836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0" y="2171880"/>
            <a:ext cx="2317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201680" y="3073320"/>
                <a:ext cx="403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4552920" y="5586480"/>
                <a:ext cx="27846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4600440" y="4984920"/>
                <a:ext cx="240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4249800" y="3948120"/>
                <a:ext cx="2166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монотонность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4133880" y="4581360"/>
                <a:ext cx="4008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промежутк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знакопостоянств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3603600" y="2100240"/>
            <a:ext cx="112068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972040" y="2103480"/>
            <a:ext cx="113688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64000" y="90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84440" y="30272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17557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697040" y="1782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934240" y="78120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312040" y="866880"/>
            <a:ext cx="12960" cy="279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1281960"/>
            <a:ext cx="242244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410400">
            <a:off x="1177560" y="2094840"/>
            <a:ext cx="214776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48200" y="2043000"/>
            <a:ext cx="14616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19240" y="2089080"/>
            <a:ext cx="14580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44720" y="2104920"/>
            <a:ext cx="146160" cy="13824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925640" y="804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87156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22400" y="5299200"/>
                <a:ext cx="209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Нули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функции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 rot="11229600">
            <a:off x="6120000" y="-1400760"/>
            <a:ext cx="2406960" cy="34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15" y="5"/>
                </a:moveTo>
                <a:arcTo wR="10800" hR="10800" stAng="-5299568" swAng="4215560"/>
                <a:lnTo>
                  <a:pt x="10800" y="10800"/>
                </a:lnTo>
                <a:close/>
              </a:path>
              <a:path fill="none" w="21600" h="21600">
                <a:moveTo>
                  <a:pt x="11115" y="5"/>
                </a:moveTo>
                <a:arcTo wR="10800" hR="10800" stAng="-5299568" swAng="4215560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68200">
            <a:off x="3729960" y="2104920"/>
            <a:ext cx="199368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12328800">
            <a:off x="3890520" y="-2361960"/>
            <a:ext cx="3199680" cy="45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170" swAng="359562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170" swAng="3595627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410400">
            <a:off x="1182600" y="2104200"/>
            <a:ext cx="214704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167278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167278"/>
              </a:path>
            </a:pathLst>
          </a:cu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421000" y="2065320"/>
            <a:ext cx="11574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46600" y="2082960"/>
            <a:ext cx="1197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24760" y="2084400"/>
            <a:ext cx="121104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350200" y="2081160"/>
            <a:ext cx="615960" cy="180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8337600" y="2075040"/>
            <a:ext cx="642960" cy="14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91000" y="2101680"/>
            <a:ext cx="1197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959440" y="2092320"/>
            <a:ext cx="1182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rot="290400">
            <a:off x="1214280" y="2090880"/>
            <a:ext cx="214668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267755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267755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799440" y="2093760"/>
            <a:ext cx="1991880" cy="398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1" y="43"/>
                </a:moveTo>
                <a:arcTo wR="10800" hR="10800" stAng="-5705634" swAng="4360670"/>
                <a:lnTo>
                  <a:pt x="10800" y="10800"/>
                </a:lnTo>
                <a:close/>
              </a:path>
              <a:path fill="none" w="21600" h="21600">
                <a:moveTo>
                  <a:pt x="9841" y="43"/>
                </a:moveTo>
                <a:arcTo wR="10800" hR="10800" stAng="-5705634" swAng="4360670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330200">
            <a:off x="5410080" y="2001960"/>
            <a:ext cx="2620080" cy="24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9" y="19"/>
                </a:moveTo>
                <a:arcTo wR="10800" hR="10800" stAng="-5604099" swAng="4578690"/>
                <a:lnTo>
                  <a:pt x="10800" y="10800"/>
                </a:lnTo>
                <a:close/>
              </a:path>
              <a:path fill="none" w="21600" h="21600">
                <a:moveTo>
                  <a:pt x="10159" y="19"/>
                </a:moveTo>
                <a:arcTo wR="10800" hR="10800" stAng="-5604099" swAng="4578690"/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448000" y="2063880"/>
            <a:ext cx="1116000" cy="14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788000" y="2071440"/>
            <a:ext cx="1117440" cy="1260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142040" y="2084400"/>
            <a:ext cx="118296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12352200">
            <a:off x="3908520" y="-2337120"/>
            <a:ext cx="3199680" cy="45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170" swAng="359562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170" swAng="3595627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11229600">
            <a:off x="6115320" y="-1389600"/>
            <a:ext cx="2406960" cy="34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15" y="5"/>
                </a:moveTo>
                <a:arcTo wR="10800" hR="10800" stAng="-5299568" swAng="4215560"/>
                <a:lnTo>
                  <a:pt x="10800" y="10800"/>
                </a:lnTo>
                <a:close/>
              </a:path>
              <a:path fill="none" w="21600" h="21600">
                <a:moveTo>
                  <a:pt x="11115" y="5"/>
                </a:moveTo>
                <a:arcTo wR="10800" hR="10800" stAng="-5299568" swAng="4215560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7932600" y="2136600"/>
                <a:ext cx="3668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"/>
          <p:cNvSpPr/>
          <p:nvPr/>
        </p:nvSpPr>
        <p:spPr>
          <a:xfrm>
            <a:off x="1069920" y="2960640"/>
            <a:ext cx="146160" cy="152280"/>
          </a:xfrm>
          <a:prstGeom prst="donut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3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2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5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6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6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4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9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8" name=""/>
          <p:cNvSpPr txBox="1"/>
          <p:nvPr/>
        </p:nvSpPr>
        <p:spPr>
          <a:xfrm>
            <a:off x="324000" y="298440"/>
            <a:ext cx="85485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Арксинус,арккосинус, арктангенс и арккотангенс.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227240" y="3924360"/>
            <a:ext cx="30240" cy="24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535640" y="5346720"/>
            <a:ext cx="21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95760" y="4080960"/>
            <a:ext cx="32040" cy="220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87920" y="4522680"/>
            <a:ext cx="1662120" cy="166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92480" y="4514040"/>
            <a:ext cx="3075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2120" y="5175360"/>
            <a:ext cx="20545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03200" y="4367160"/>
            <a:ext cx="1676520" cy="1630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084400" y="3904920"/>
            <a:ext cx="28440" cy="26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196920" y="2185560"/>
            <a:ext cx="20667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4800" y="1351080"/>
            <a:ext cx="1676520" cy="1630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4573440" y="2153880"/>
            <a:ext cx="2111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768920" y="1319040"/>
            <a:ext cx="1676160" cy="1630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35520" y="1363680"/>
            <a:ext cx="1681920" cy="165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303840" y="1394280"/>
            <a:ext cx="171360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9640" y="4354560"/>
            <a:ext cx="1625040" cy="168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 rot="21543600">
            <a:off x="387360" y="4446000"/>
            <a:ext cx="1677600" cy="153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97" y="17"/>
                </a:moveTo>
                <a:arcTo wR="10800" hR="10800" stAng="-5591890" swAng="5591890"/>
                <a:lnTo>
                  <a:pt x="10800" y="10800"/>
                </a:lnTo>
                <a:close/>
              </a:path>
              <a:path fill="none" w="21600" h="21600">
                <a:moveTo>
                  <a:pt x="10197" y="17"/>
                </a:moveTo>
                <a:arcTo wR="10800" hR="10800" stAng="-5591890" swAng="559189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761000" y="1320840"/>
            <a:ext cx="1681920" cy="165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75760" y="1320840"/>
            <a:ext cx="1653120" cy="165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4687920" y="4513320"/>
            <a:ext cx="1625040" cy="174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21447600">
            <a:off x="4707000" y="4516920"/>
            <a:ext cx="1653840" cy="171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70480" y="5267160"/>
            <a:ext cx="146160" cy="14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06920" y="5273640"/>
            <a:ext cx="146160" cy="14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3000" y="5902200"/>
            <a:ext cx="146160" cy="14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176480" y="4281480"/>
            <a:ext cx="145800" cy="14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60640" y="1349280"/>
            <a:ext cx="15840" cy="1640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089080" y="3781440"/>
            <a:ext cx="14400" cy="2773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157640" y="4492800"/>
            <a:ext cx="2930400" cy="28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759200" y="2162160"/>
            <a:ext cx="16686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160640" y="1436400"/>
            <a:ext cx="42192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176480" y="2176560"/>
            <a:ext cx="40788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587920" y="1653840"/>
            <a:ext cx="69696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4919760" y="1684080"/>
            <a:ext cx="66816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233360" y="4064040"/>
            <a:ext cx="884520" cy="11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233360" y="5195880"/>
            <a:ext cx="82728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500800" y="4498560"/>
            <a:ext cx="124776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25760" y="4498920"/>
            <a:ext cx="116064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042200" y="2035080"/>
            <a:ext cx="3502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3881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38815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269000" y="4998960"/>
            <a:ext cx="258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4760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476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547960" y="5216400"/>
            <a:ext cx="261360" cy="4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90897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90897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269360" y="4765320"/>
            <a:ext cx="25524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8744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8744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176480" y="1452600"/>
            <a:ext cx="39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60640" y="2873520"/>
            <a:ext cx="42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919760" y="1684440"/>
            <a:ext cx="0" cy="4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270480" y="1638360"/>
            <a:ext cx="14400" cy="50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1173600" y="2047320"/>
            <a:ext cx="1771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5208480" y="5210280"/>
            <a:ext cx="1771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1319040" y="1979640"/>
                <a:ext cx="17496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528920" y="4944960"/>
                <a:ext cx="17280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6022800" y="1905120"/>
                <a:ext cx="19224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1305000" y="2259000"/>
                <a:ext cx="317520" cy="1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5951520" y="5075280"/>
                <a:ext cx="1731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285880" y="1857240"/>
            <a:ext cx="636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81" y="4292"/>
                </a:moveTo>
                <a:arcTo wR="10800" hR="10800" stAng="-8576820" swAng="8576820"/>
                <a:lnTo>
                  <a:pt x="10800" y="10800"/>
                </a:lnTo>
                <a:close/>
              </a:path>
              <a:path fill="none" w="21600" h="21600">
                <a:moveTo>
                  <a:pt x="2181" y="4292"/>
                </a:moveTo>
                <a:arcTo wR="10800" hR="10800" stAng="-8576820" swAng="85768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500120" y="5268960"/>
                <a:ext cx="316080" cy="1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162840" y="2155680"/>
                <a:ext cx="2174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792000" y="2676600"/>
                <a:ext cx="40356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803840" y="2189160"/>
                <a:ext cx="345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4098960" y="4240080"/>
                <a:ext cx="40320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116080" y="6146640"/>
                <a:ext cx="40320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957240" y="1390680"/>
                <a:ext cx="2444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197080" y="3963960"/>
                <a:ext cx="2444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600960" y="4216320"/>
                <a:ext cx="2444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1165320" y="2927520"/>
                <a:ext cx="3474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203480" y="5952960"/>
                <a:ext cx="293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1211400" y="892080"/>
                <a:ext cx="1792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301760" y="3933720"/>
                <a:ext cx="165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>
            <a:off x="6397560" y="1820880"/>
            <a:ext cx="2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289560" y="5021280"/>
            <a:ext cx="2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4414680" y="5143680"/>
                <a:ext cx="22716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1755720" y="3862440"/>
                <a:ext cx="3556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574640" y="1177920"/>
                <a:ext cx="6620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1614600" y="2747880"/>
                <a:ext cx="863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49200" y="3317760"/>
                <a:ext cx="1909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397240" y="1955880"/>
                <a:ext cx="1763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251400" y="1459080"/>
                <a:ext cx="6940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3975120" y="1413000"/>
                <a:ext cx="892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4621320" y="3260880"/>
                <a:ext cx="23065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6978600" y="1852560"/>
                <a:ext cx="17337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355840" y="5052960"/>
                <a:ext cx="16257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795320" y="4398840"/>
                <a:ext cx="538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1765440" y="5691240"/>
                <a:ext cx="83484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14480" y="6315120"/>
                <a:ext cx="19270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6270480" y="4762440"/>
                <a:ext cx="63828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tg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033800" y="4583160"/>
                <a:ext cx="81612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624560" y="6335640"/>
                <a:ext cx="21636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tg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7074000" y="4865760"/>
                <a:ext cx="18129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tg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ctg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492800" y="1898640"/>
                <a:ext cx="22680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6" name=""/>
          <p:cNvSpPr/>
          <p:nvPr/>
        </p:nvSpPr>
        <p:spPr>
          <a:xfrm flipV="1">
            <a:off x="1158840" y="1069920"/>
            <a:ext cx="14400" cy="219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5592600" y="1038240"/>
            <a:ext cx="1800" cy="21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2901960" y="2378160"/>
                <a:ext cx="72864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482920" y="2660760"/>
                <a:ext cx="15573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0" name=""/>
          <p:cNvSpPr/>
          <p:nvPr/>
        </p:nvSpPr>
        <p:spPr>
          <a:xfrm>
            <a:off x="825840" y="292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95680" y="104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828960" y="1633680"/>
                <a:ext cx="98280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551720" y="2252520"/>
                <a:ext cx="7286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4379760" y="2098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471000" y="21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7216920" y="2571840"/>
                <a:ext cx="139536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8" name=""/>
          <p:cNvSpPr/>
          <p:nvPr/>
        </p:nvSpPr>
        <p:spPr>
          <a:xfrm>
            <a:off x="5789880" y="1901880"/>
            <a:ext cx="262800" cy="49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916360" y="5516640"/>
                <a:ext cx="569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50960" y="5808600"/>
                <a:ext cx="1390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a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>
            <a:off x="6851880" y="42148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7740720" y="5319720"/>
                <a:ext cx="569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7230960" y="5614920"/>
                <a:ext cx="144144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tga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 flipH="1">
            <a:off x="5165640" y="1930320"/>
            <a:ext cx="17712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776760" y="4832280"/>
                <a:ext cx="9824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5050440" y="4983120"/>
            <a:ext cx="878400" cy="7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12" y="3215"/>
                </a:moveTo>
                <a:arcTo wR="10800" hR="10800" stAng="-8123190" swAng="8123190"/>
                <a:lnTo>
                  <a:pt x="10800" y="10800"/>
                </a:lnTo>
                <a:close/>
              </a:path>
              <a:path fill="none" w="21600" h="21600">
                <a:moveTo>
                  <a:pt x="3112" y="3215"/>
                </a:moveTo>
                <a:arcTo wR="10800" hR="10800" stAng="-8123190" swAng="812319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4" dur="indefinite" restart="never" nodeType="tmRoot">
          <p:childTnLst>
            <p:seq>
              <p:cTn id="1985" dur="indefinite" nodeType="mainSeq">
                <p:childTnLst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6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3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7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5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5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9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3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2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6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4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8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3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4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0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0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4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8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0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5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9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2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6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1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5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9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3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7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9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3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8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1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8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08:29:12Z</dcterms:created>
  <dc:creator>guest</dc:creator>
  <dc:description/>
  <dc:language>en-US</dc:language>
  <cp:lastModifiedBy>Мамонтовы</cp:lastModifiedBy>
  <dcterms:modified xsi:type="dcterms:W3CDTF">2011-06-21T10:10:41Z</dcterms:modified>
  <cp:revision>202</cp:revision>
  <dc:subject/>
  <dc:title>Слайд 1</dc:title>
</cp:coreProperties>
</file>